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901-65FE-4D28-850E-2A682323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E4D-A262-4FC9-B0F4-5A5EBDA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6C3-2AF5-451D-87FC-F27FD71E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B3A-2858-4DAC-98A6-94A564C7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4D8B-3982-410E-9A92-73CE4436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7A73-6C93-4110-B2F4-514CB6C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8203-515B-4631-85EE-247610AB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E50F-6C8D-4968-8EF8-E715CE39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E539-3106-466E-9E78-835FD08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10D0-66C1-4D3B-BBC7-43D0A392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0D1C-33F8-4591-A216-7291A5A0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CD4-DC65-441B-A18C-7D6FD220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EB8B-62CD-49FB-A7FA-FF817349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61ED-E285-4F23-9970-96AA6ED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FC44-477B-493B-B6A1-EB79782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6C61-9A21-4C8D-8928-45FC0582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44A9-1480-4437-91F2-5DAAB1D0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E52-C2D5-4A05-9750-6BA2C1AE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CF3-E167-47FC-8C84-4A195023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349-616F-4E7C-81A8-EA926E6A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E07-7370-4AAA-9F50-DFEDCED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18C-796D-4609-99E5-451BE501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A97-9881-458E-911F-26FE2D1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55B-5100-49B3-AB29-FB7CA29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94C0-CECD-4A51-A0CB-5D637C4AD708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DED8-73DF-470F-9141-546A56F03B3F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hw.gr/chronos/07/gr/culture/index20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hyperlink" Target="http://www.vroma.org/images/mcmanus_images/paula_chabot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vroma.org/images/image_search.html" TargetMode="External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hyperlink" Target="http://www.culture.gr/2/21/211/21103a/g211ca02.html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1.png"/><Relationship Id="rId13" Type="http://schemas.openxmlformats.org/officeDocument/2006/relationships/hyperlink" Target="http://www.culture.gr/2/21/211/21103n/g211cn01.html" TargetMode="External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ntranet.arc.miami.edu/rjohn/ARC%20267/Hadrianic_2002.htm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www.culture.gr/2/21/211/21101a/g211aa08.html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rubens.anu.edu.au/htdocs/bycountry/italy/rome/galleries/civilta/Thessaloniki_Arch_of_Galerius/" TargetMode="External"/><Relationship Id="rId7" Type="http://schemas.openxmlformats.org/officeDocument/2006/relationships/hyperlink" Target="http://rubens.anu.edu.au/htdocs/bycountry/italy/rome/galleries/civilta/Thessaloniki_Arch_of_Galerius/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Ρωμαϊκή τέχνη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ος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αι. π.Χ -3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ος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αι. μ.Χ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Forum Augusti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33720" y="2568600"/>
            <a:ext cx="48765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Forum Augusti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133720" y="2405160"/>
            <a:ext cx="4876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Forum Trajani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3781440" cy="2838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7814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Κάτοψη αγοράς Τραϊανού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8006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Αναπαράσταση αγοράς Τραϊανού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1640" y="2585880"/>
            <a:ext cx="5400720" cy="3210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806040" y="609300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Urban Simulation Team - UCLA and the J. Paul Getty Trus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Αναπαράσταση αγοράς Τραϊανού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871640" y="2585880"/>
            <a:ext cx="5400720" cy="3210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06040" y="609300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Urban Simulation Team - UCLA and the J. Paul Getty Trus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Αναπαράσταση αγοράς Τραϊανού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871640" y="2585880"/>
            <a:ext cx="5400720" cy="3210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806040" y="609300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Urban Simulation Team - UCLA and the J. Paul Getty Trus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Αναπαράσταση αγοράς Τραϊανού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71640" y="2585880"/>
            <a:ext cx="5400720" cy="32101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806040" y="609300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Urban Simulation Team - UCLA and the J. Paul Getty Trus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Αναπαράσταση αγοράς Τραϊανού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757520" y="2314440"/>
            <a:ext cx="56289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321264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d39f"/>
                </a:solidFill>
                <a:latin typeface="Times New Roman"/>
              </a:rPr>
              <a:t>Έργα στην Ελλάδα</a:t>
            </a:r>
            <a:endParaRPr b="0" lang="en-US" sz="2800" spc="-1" strike="noStrike">
              <a:solidFill>
                <a:srgbClr val="edd3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Χαρακτηριστικά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Μίμηση ελληνικών προτύπ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Συνδυάζουν το πρακτικό με το μεγαλεπήβολο πνεύμ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Έργα μεγάλων διαστάσεων -μνημειακός χαρακτήρα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Εξυπηρετούν πρακτικές ανάγκε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Προβάλλουν ιδέα μεγαλείου και υλικής δύναμη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d39f"/>
                </a:solidFill>
                <a:latin typeface="Times New Roman"/>
              </a:rPr>
              <a:t>Ναός Ολυμπίου Διός, Αθήνα</a:t>
            </a:r>
            <a:br>
              <a:rPr sz="3600"/>
            </a:br>
            <a:r>
              <a:rPr b="0" lang="en-US" sz="3600" spc="-1" strike="noStrike">
                <a:solidFill>
                  <a:srgbClr val="edd39f"/>
                </a:solidFill>
                <a:latin typeface="Times New Roman"/>
              </a:rPr>
              <a:t>124-132 μ.Χ.</a:t>
            </a:r>
            <a:endParaRPr b="0" lang="en-US" sz="36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400720" cy="3829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24000" y="595008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Ο ναός ήταν οχτάστυλος τρίπτερος στις δύο στενές πλευρές και εικοσάστυλος δίπτερος στις μακρές πλευρές (104 συνολικά κορινθιακοί κίονες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Πύλη Αδριανού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024000" cy="33447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547640" y="5305320"/>
            <a:ext cx="562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Η Πύλη του Αδριανού είναι η θριαμβική αψίδα που έχτισαν οι Αθηναίοι το 131 μ.Χ.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για να τιμήσουν τον ευεργέτη αυτοκράτορα Αδριανό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dd39f"/>
                </a:solidFill>
                <a:latin typeface="Times New Roman"/>
              </a:rPr>
              <a:t>Ωδείο Ηρώδου Αττικού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400720" cy="4048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00000" y="6095880"/>
            <a:ext cx="756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To ωδείο του Ηρώδου του Αττικού, χτίστηκε στη μνήμη της γυναίκας του  Ρηγίλλης, που πέθανε πρόωρα το 160 π.Χ.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dd39f"/>
                </a:solidFill>
                <a:latin typeface="Times New Roman"/>
              </a:rPr>
              <a:t>Ωδείο Ηρώδου Αττικού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47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71640" y="6035760"/>
            <a:ext cx="73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Πίσω από την σκηνή, υπάρχει σειρά κιόνων και κογχών, που άλλοτε στέγαζαν αγάλματα θεοτήτων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Βιβλιοθήκη Αδριανού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4195800" cy="3311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Ορθογώνιο κτήριο με κορινθιακό πρόπυλο δυτικά, υπαίθρια αυλή με στοές στις τέσσερις πλευρές, τρεις προεξέχουσες κόγχες σε κάθε μακρά πλευρά, βιβλιοθήκη, αναγνωστήρια, αίθουσες διαλέξεων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Κτίσθηκε γύρω στο 132 μ.Χ. από τον αυτοκράτορα Αδριανό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Ροτόντα – αρχές 4</a:t>
            </a:r>
            <a:r>
              <a:rPr b="0" lang="en-US" sz="4400" spc="-1" strike="noStrike" baseline="30000">
                <a:solidFill>
                  <a:srgbClr val="edd39f"/>
                </a:solidFill>
                <a:latin typeface="Times New Roman"/>
              </a:rPr>
              <a:t>ου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μ.Χ.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8784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Πλαστική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00200" y="2452680"/>
            <a:ext cx="3781440" cy="34765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43280" y="27432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Κίονας Τραϊανού Ρώμη </a:t>
            </a:r>
            <a:br>
              <a:rPr sz="2800"/>
            </a:b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– το λίθινο έπο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πεικονίζει ιστορία πολέμων αυτοκράτορα κατά Δακών, κατοίκων Ρουμανία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dd39f"/>
                </a:solidFill>
                <a:latin typeface="Times New Roman"/>
              </a:rPr>
              <a:t>Αψίδα Γαλέριου ή Καμάρα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1640" y="227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l-GR" sz="2000" spc="-1" strike="noStrike">
                <a:solidFill>
                  <a:srgbClr val="eaeaea"/>
                </a:solidFill>
                <a:latin typeface="Times New Roman"/>
              </a:rPr>
              <a:t>Η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 θριαμβική αψίδα του Γαλερίου, χτίστηκε το 305 μ.Χ ύστερα από την οριστική νίκη του αυτοκράτορα κατά των Περσών. Είχε την τυπολογία ενός οκτάπυλου με 4 κεντρικούς ογκώδεις πεσσούς, 4 δευτερεύοντες στα πλάγια, ισάριθμα τόξα και χαμηλό σφαιροειδή θόλο. Συνδεόταν με τα Ανάκτορα του Γαλερίου (προς Ν.) και με τη Ροτόντα (προς Β.).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μήμα της δυτικής πτέρυγας του οκτάπυλου σώζεται μέχρι σήμερα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ulture.g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edd39f"/>
                </a:solidFill>
                <a:latin typeface="Times New Roman"/>
              </a:rPr>
              <a:t>Λεπτομέρειες από την αψίδα του Γαλερίου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3090960" cy="4114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2695680" cy="20289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26956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d39f"/>
                </a:solidFill>
                <a:latin typeface="Times New Roman"/>
              </a:rPr>
              <a:t>Τα πορτρέτα</a:t>
            </a:r>
            <a:br>
              <a:rPr sz="4000"/>
            </a:br>
            <a:r>
              <a:rPr b="0" lang="en-US" sz="4000" spc="-1" strike="noStrike">
                <a:solidFill>
                  <a:srgbClr val="edd39f"/>
                </a:solidFill>
                <a:latin typeface="Times New Roman"/>
              </a:rPr>
              <a:t> του Φαγιούμ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1905120" cy="36957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659640" y="836640"/>
            <a:ext cx="1724040" cy="5715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851280" y="2133720"/>
            <a:ext cx="1905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d39f"/>
                </a:solidFill>
                <a:latin typeface="Times New Roman"/>
              </a:rPr>
              <a:t>Σε τι πρωτοπορεί η ρωμαϊκή τέχνη;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Αρχιτεκτονικ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Πλαστική: Ρεαλιστικό πορτρέτ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amp; ιστορικό ανάγλυφ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Ζωγραφική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Προσωπογραφί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154320" cy="4994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31300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Δικτυακοί τόποι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deb54e"/>
                </a:solidFill>
                <a:uFillTx/>
                <a:latin typeface="Times New Roman"/>
                <a:hlinkClick r:id="rId2"/>
              </a:rPr>
              <a:t>http://www.fhw.gr/chronos/07/gr/culture/index20.html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Κατάλογος εικόνω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deb54e"/>
                </a:solidFill>
                <a:uFillTx/>
                <a:latin typeface="Times New Roman"/>
                <a:hlinkClick r:id="rId5"/>
              </a:rPr>
              <a:t>http://www.vroma.org/images/mcmanus_images/paula_chabot/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deb54e"/>
                </a:solidFill>
                <a:uFillTx/>
                <a:latin typeface="Times New Roman"/>
                <a:hlinkClick r:id="rId7"/>
              </a:rPr>
              <a:t>http://www.vroma.org/images/image_search.html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Ολυμπιείον Αθηνώ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deb54e"/>
                </a:solidFill>
                <a:uFillTx/>
                <a:latin typeface="Times New Roman"/>
                <a:hlinkClick r:id="rId10"/>
              </a:rPr>
              <a:t>http://www.culture.gr/2/21/211/21103a/g211ca02.htm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Πύλη Αδριανο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deb54e"/>
                </a:solidFill>
                <a:uFillTx/>
                <a:latin typeface="Times New Roman"/>
                <a:hlinkClick r:id="rId13"/>
              </a:rPr>
              <a:t>http://www.culture.gr/2/21/211/21103n/g211cn01.html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Αψίδα Γαλέριου ή Καμάρ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http://www.culture.gr/2/21/211/21116/g211pa12.htm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Αρχιτεκτονική εποχής Αδριανο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400" spc="-1" strike="noStrike" u="sng">
                <a:solidFill>
                  <a:srgbClr val="deb54e"/>
                </a:solidFill>
                <a:uFillTx/>
                <a:latin typeface="Times New Roman"/>
                <a:hlinkClick r:id="rId2"/>
              </a:rPr>
              <a:t>http://intranet.arc.miami.edu/rjohn/ARC%20267/Hadrianic_2002.htm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Βιβλιοθήκη Αδριανο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400" spc="-1" strike="noStrike" u="sng">
                <a:solidFill>
                  <a:srgbClr val="deb54e"/>
                </a:solidFill>
                <a:uFillTx/>
                <a:latin typeface="Times New Roman"/>
                <a:hlinkClick r:id="rId4"/>
              </a:rPr>
              <a:t>http://www.culture.gr/2/21/211/21101a/g211aa08.html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Λεπτομέρειες από την Καμάρ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400" spc="-1" strike="noStrike" u="sng">
                <a:solidFill>
                  <a:srgbClr val="deb54e"/>
                </a:solidFill>
                <a:uFillTx/>
                <a:latin typeface="Times New Roman"/>
                <a:hlinkClick r:id="rId6"/>
              </a:rPr>
              <a:t>http://rubens.anu.edu.au/htdocs/bycountry/italy/rome/galleries/civilta/Thessaloniki_Arch_of_Galerius</a:t>
            </a:r>
            <a:r>
              <a:rPr b="0" lang="el-GR" sz="2000" spc="-1" strike="noStrike" u="sng">
                <a:solidFill>
                  <a:srgbClr val="deb54e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Ψηφιακή αναπαράσταση αγοράς Τραιανού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http://www.ust.ucla.edu/ustweb/Projects/trajans_forum.ht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Δικτυακοί τόποι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Δικτυακοί τόποι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Φαγιού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http://www.ics.forth.gr/isl/fayum/ekthemata.ht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http://www.ucl.ac.uk/museumstudies/websites03/fayum/index.htm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http://stuff.mit.edu/afs/athena/course/21/21h.302/www/local/fayum/fayum.htm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http://en.wikipedia.org/wiki/Gallery_of_Fayum_mummy_portrai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Πάνθεον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979640" y="18900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d39f"/>
                </a:solidFill>
                <a:latin typeface="Times New Roman"/>
              </a:rPr>
              <a:t>Μνημεία Ρώμη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Πάνθεον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4248360" cy="2772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02920" y="4797000"/>
            <a:ext cx="705492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Κυλινδρικό σχήμα με θόλ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Κατασκευάστηκε από τον Αδριαν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Πάνθεον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881360" y="2604960"/>
            <a:ext cx="5381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Πάνθεον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3824280" cy="2522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788000" y="2975040"/>
            <a:ext cx="39607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Κολοσσαίο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Κολοσσαίο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14800" cy="2838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601280" y="530064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Το αμφιθέατρο χωρούσε μέχρι 50000 θεατές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Άρχισε να κατασκευάζεται επί Βεσπασιανού,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ολοκληρώθηκε από τους άμεσους διαδόχους το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06:50:52Z</dcterms:created>
  <dc:creator>YPEPTH</dc:creator>
  <dc:description/>
  <dc:language>en-US</dc:language>
  <cp:lastModifiedBy>YPEPTH</cp:lastModifiedBy>
  <dcterms:modified xsi:type="dcterms:W3CDTF">2004-11-05T09:13:53Z</dcterms:modified>
  <cp:revision>43</cp:revision>
  <dc:subject/>
  <dc:title>Ρωμαϊκή τέχνη</dc:title>
</cp:coreProperties>
</file>